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246-6926-4226-9B9B-930C5207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F35-D975-4B48-86A6-6AC524CC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8D3D-D9DB-409F-8CFC-0641037F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2EC-9125-4B16-9105-5C7419EA6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44E-8C94-46AD-B335-FF02C848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C361-5BDB-4A23-9D4E-C4113E6D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7F8-FE60-4630-990A-11305EB8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CDA-181A-4353-8295-71AE8322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1AA-3D1F-4402-BBBB-CD435A776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FFE-CF91-4B24-9573-86818ECD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042-2A67-4290-983C-08A5BB5C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021-2F7E-4C7A-8084-F47C92EB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89CA-D8E9-47B0-B758-9308B020AB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19"/>
          <p:cNvSpPr txBox="1"/>
          <p:nvPr/>
        </p:nvSpPr>
        <p:spPr>
          <a:xfrm>
            <a:off x="619200" y="2579760"/>
            <a:ext cx="7619760" cy="16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808080">
                      <a:alpha val="78000"/>
                    </a:srgbClr>
                  </a:outerShdw>
                </a:effectLst>
                <a:latin typeface="Times New Roman"/>
              </a:rPr>
              <a:t>I've had this bike for three years.</a:t>
            </a:r>
            <a:endParaRPr b="1" i="1" lang="en-US" sz="60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808080">
                    <a:alpha val="78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954160" y="752400"/>
            <a:ext cx="3789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8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cc6600"/>
                </a:solidFill>
                <a:latin typeface="宋体"/>
              </a:rPr>
              <a:t>Unit 10</a:t>
            </a:r>
            <a:endParaRPr b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cc6600"/>
              </a:solidFill>
              <a:latin typeface="宋体"/>
              <a:ea typeface="宋体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030320" y="4822920"/>
            <a:ext cx="32176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riod 2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254480" y="4818240"/>
            <a:ext cx="47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Section A(3a-4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914400" y="90756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Have you ever thought about having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ard sale to sell your thi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at would you do with the mone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ou rai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022760" y="3827520"/>
            <a:ext cx="58057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Yes, I ha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I would give it to the chari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55280" y="1268280"/>
            <a:ext cx="748836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Find the words or phrases in the article which can be replaced with the ones below and write them next to the word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378936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lose— 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Times New Roman"/>
              </a:rPr>
              <a:t>part with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         kids— 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truthful— __________      many— ________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some time— ______  even though— 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quickly— ______        older— 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5654160" y="3789360"/>
            <a:ext cx="1715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childr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327040" y="4437000"/>
            <a:ext cx="2386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to be hone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6861600" y="4416480"/>
            <a:ext cx="1453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a lot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7022160" y="5064120"/>
            <a:ext cx="1811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althoug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487240" y="5661000"/>
            <a:ext cx="851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fa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877000" y="5661000"/>
            <a:ext cx="135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bigg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773800" y="5064120"/>
            <a:ext cx="1488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a wh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"/>
          <p:cNvSpPr/>
          <p:nvPr/>
        </p:nvSpPr>
        <p:spPr>
          <a:xfrm>
            <a:off x="395280" y="1339920"/>
            <a:ext cx="649440" cy="647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5"/>
          <p:cNvSpPr txBox="1"/>
          <p:nvPr/>
        </p:nvSpPr>
        <p:spPr>
          <a:xfrm rot="246600">
            <a:off x="2835360" y="115920"/>
            <a:ext cx="30970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5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Exercis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5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800000"/>
            <a:ext cx="842472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从过去已经开始持续到现在的动作或状态，可以和表示“从过去某一时刻延续到现在的一段时间状语”连用，如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or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时间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ince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去时间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ince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去时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ince+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段时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+ag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inc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引导的时间状语可以相互转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6"/>
          <p:cNvSpPr txBox="1"/>
          <p:nvPr/>
        </p:nvSpPr>
        <p:spPr>
          <a:xfrm>
            <a:off x="1657440" y="231840"/>
            <a:ext cx="5867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resent Perfect Tense</a:t>
            </a:r>
            <a:endParaRPr b="1" lang="en-US" sz="1800" spc="1" strike="noStrike">
              <a:ln w="12600">
                <a:solidFill>
                  <a:srgbClr val="ff00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WordArt 7"/>
          <p:cNvSpPr txBox="1"/>
          <p:nvPr/>
        </p:nvSpPr>
        <p:spPr>
          <a:xfrm>
            <a:off x="3044880" y="1052640"/>
            <a:ext cx="2895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3399ff"/>
                  </a:solidFill>
                  <a:miter/>
                </a:ln>
                <a:solidFill>
                  <a:srgbClr val="33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现在完成时</a:t>
            </a:r>
            <a:endParaRPr b="1" lang="en-US" sz="1800" spc="1" strike="noStrike">
              <a:ln w="19080">
                <a:solidFill>
                  <a:srgbClr val="3399ff"/>
                </a:solidFill>
                <a:miter/>
              </a:ln>
              <a:solidFill>
                <a:srgbClr val="33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468360" y="736560"/>
            <a:ext cx="828036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My uncle has worked at this factory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en y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= My uncle has worked at this factory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inc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en year ag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’ve lived here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inc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199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99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以来我就住在这里。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 haven’t seen him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three y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三年没有看见他了。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360" y="4143240"/>
            <a:ext cx="8675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含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inc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现在完成时的用法歌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去的动作或状态，一直持续到现在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or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ince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把时间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>
            <a:off x="3241800" y="2664000"/>
            <a:ext cx="226692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歌诀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468360" y="549360"/>
            <a:ext cx="8136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he’s been at this school 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inc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five years ago.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从五年前以来她就在这个学校。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2060640"/>
            <a:ext cx="8675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此种用法中表示持续性的动作或状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动词必须是延续性动词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否定句除外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本书我买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have bought the book for five years. (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’ve had the book for five years. 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8217360" y="4138560"/>
            <a:ext cx="470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7148520" y="4791240"/>
            <a:ext cx="487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1476360" y="692280"/>
            <a:ext cx="5904000" cy="88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句中动词的特点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675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哥哥参军多长时间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long has your brother joined the army? 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ow long has your brother been in the army/been a soldier? 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2477160" y="2676600"/>
            <a:ext cx="4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5348160" y="3890880"/>
            <a:ext cx="487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84963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转换为相应的延续性动词，用于现在完成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orrow — keep             buy — hav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ut on — w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atch a cold — have a cold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 know — k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 sleep —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395280" y="620640"/>
            <a:ext cx="8282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非延续性动词和延续性动词之间的转换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wedg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79280" y="764640"/>
            <a:ext cx="806436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转化为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容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副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gin / start — be on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o out — be ou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lose — be clos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pen — be open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et to/arrive/reach — be (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ie — be dead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eave — be awa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943280" y="1052640"/>
            <a:ext cx="720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inish — be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ll sleep — be asleep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oin — be in/be a member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come — b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ke friends — be 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ome/go/ — be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应的介词短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39640" y="480384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droom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卧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348000" y="57405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ailway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铁路；铁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卧室"/>
          <p:cNvPicPr/>
          <p:nvPr/>
        </p:nvPicPr>
        <p:blipFill>
          <a:blip r:embed="rId2"/>
          <a:srcRect l="0" t="0" r="0" b="5500"/>
          <a:stretch/>
        </p:blipFill>
        <p:spPr>
          <a:xfrm>
            <a:off x="539640" y="1577880"/>
            <a:ext cx="4751640" cy="3003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railway"/>
          <p:cNvPicPr/>
          <p:nvPr/>
        </p:nvPicPr>
        <p:blipFill>
          <a:blip r:embed="rId3"/>
          <a:stretch/>
        </p:blipFill>
        <p:spPr>
          <a:xfrm>
            <a:off x="5651640" y="2428920"/>
            <a:ext cx="3162240" cy="2857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1619280" y="260280"/>
            <a:ext cx="54007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New words</a:t>
            </a:r>
            <a:endParaRPr b="1" lang="en-US" sz="1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She _______ this book for nearly three wee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has borrowed           B. has l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has bought                D. has ke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Ten years has passed ____ the CCTV event People Who Moved China took place in 200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when     B. while    C. before     D. s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4928400" y="2871720"/>
            <a:ext cx="5158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6873120" y="5575320"/>
            <a:ext cx="5158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7"/>
          <p:cNvSpPr txBox="1"/>
          <p:nvPr/>
        </p:nvSpPr>
        <p:spPr>
          <a:xfrm>
            <a:off x="3059280" y="258840"/>
            <a:ext cx="2736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Exercises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2"/>
          <p:cNvSpPr/>
          <p:nvPr/>
        </p:nvSpPr>
        <p:spPr>
          <a:xfrm>
            <a:off x="668160" y="3841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60093"/>
                </a:solidFill>
                <a:latin typeface="Arial"/>
              </a:rPr>
              <a:t>4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63640" y="341280"/>
            <a:ext cx="6553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write the sentences using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or </a:t>
            </a:r>
            <a:r>
              <a:rPr b="1" i="1" lang="en-US" sz="3600" spc="-1" strike="noStrike">
                <a:solidFill>
                  <a:srgbClr val="0000ff"/>
                </a:solidFill>
                <a:latin typeface="Arial"/>
              </a:rPr>
              <a:t>since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612800"/>
            <a:ext cx="8763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im is in Japan. He arrived there three day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They are very hungry. Their last meal was ten hour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41080" y="5046840"/>
            <a:ext cx="63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hey have been hungry for t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ours/since ten hour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541800" y="3005280"/>
            <a:ext cx="76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Jim has been in Japan for three yea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14200" y="620640"/>
            <a:ext cx="85345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I have a camera. I bought it in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I know Anna. I first met her three ye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Linda is ill. She became ill on Mon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758880" y="1258920"/>
            <a:ext cx="6365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 have had a camera since 2009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719280" y="3265560"/>
            <a:ext cx="770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 have known Ann for three years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ince three years ag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541440" y="5292720"/>
            <a:ext cx="6581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inda has been ill since Mon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206280" y="47628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4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273320" y="476280"/>
            <a:ext cx="76197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ill in the blanks with the correct forms of the verbs in bracke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407880" y="1685880"/>
            <a:ext cx="838224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_______________ (never be) to the water park before. I want to _____ (go) next month before the weather gets too c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They _________________ (never own) any pets, but they ___________ (always want) to have a do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262520" y="1778040"/>
            <a:ext cx="33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 never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6612120" y="24256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130480" y="4441680"/>
            <a:ext cx="36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 never o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4379040" y="5091120"/>
            <a:ext cx="25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lways 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24000" y="765000"/>
            <a:ext cx="83692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We _________ (have) a piano since last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vember. We _______ (buy) it from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i family when they moved to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 last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Cathy and Amy ____________ (not be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k to their hometown for two years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y ______ (miss) their hometown a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t and hope to visit the place next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699920" y="771480"/>
            <a:ext cx="1946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 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898080" y="1450800"/>
            <a:ext cx="1553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ou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047840" y="3395520"/>
            <a:ext cx="268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ven’t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085840" y="4726080"/>
            <a:ext cx="104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m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522360" y="1197000"/>
            <a:ext cx="81532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This museum _________ (be) here for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ver 20 years. It _____ (be) one of 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ldest buildings in this small tow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907800" y="1203480"/>
            <a:ext cx="1870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has b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56160" y="1852560"/>
            <a:ext cx="48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2"/>
          <p:cNvSpPr/>
          <p:nvPr/>
        </p:nvSpPr>
        <p:spPr>
          <a:xfrm>
            <a:off x="277920" y="116676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4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344600" y="979560"/>
            <a:ext cx="7620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Fill in the questions and ask two students. Then complete the char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5"/>
          <p:cNvSpPr/>
          <p:nvPr/>
        </p:nvSpPr>
        <p:spPr>
          <a:xfrm>
            <a:off x="515880" y="2709720"/>
            <a:ext cx="82090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Do you have a(n) _______? How long have you had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Do you own a(n)_______? How long have you owned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1268280"/>
          <a:ext cx="7777080" cy="4108680"/>
        </p:xfrm>
        <a:graphic>
          <a:graphicData uri="http://schemas.openxmlformats.org/drawingml/2006/table">
            <a:tbl>
              <a:tblPr/>
              <a:tblGrid>
                <a:gridCol w="1800360"/>
                <a:gridCol w="2736720"/>
                <a:gridCol w="3240000"/>
              </a:tblGrid>
              <a:tr h="749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Thing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3399"/>
                          </a:solidFill>
                          <a:latin typeface="Arial"/>
                        </a:rPr>
                        <a:t>How lon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n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vorite book  basketba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two yea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nce he was 10 years ol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585720" y="2130480"/>
            <a:ext cx="7991640" cy="2606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7819" dir="2700000" blurRad="0" rotWithShape="0">
              <a:srgbClr val="005e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矩形 5" descr=""/>
          <p:cNvPicPr/>
          <p:nvPr/>
        </p:nvPicPr>
        <p:blipFill>
          <a:blip r:embed="rId2"/>
          <a:stretch/>
        </p:blipFill>
        <p:spPr>
          <a:xfrm>
            <a:off x="3408480" y="865080"/>
            <a:ext cx="2273040" cy="920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2520" y="2206800"/>
            <a:ext cx="8381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Each man is the architect    of his own fa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Comic Sans MS"/>
              </a:rPr>
              <a:t>每个人都是自己命运的建筑师</a:t>
            </a:r>
            <a:br>
              <a:rPr sz="4800"/>
            </a:br>
            <a:r>
              <a:rPr b="0" lang="zh-CN" sz="4800" spc="-1" strike="noStrike">
                <a:solidFill>
                  <a:srgbClr val="ff3300"/>
                </a:solidFill>
                <a:latin typeface="Comic Sans MS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400" y="12697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junior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地位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或职位、级别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)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低下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junior high school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初级中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We could give the job to somebod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junio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可以把这份工作交给职位较低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own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拥有；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Most households now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ow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at lea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ne ca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多数家庭现在至少有一辆汽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truthful   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adj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诚实的；老实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He was not always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truthfu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并非总是说真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1066680"/>
            <a:ext cx="785016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ad the article written by a father for a newspaper. What is his family going to sell at the yard sa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3357360"/>
            <a:ext cx="6912000" cy="29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n:  </a:t>
            </a: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a train and railway se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the toy mon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aughter: </a:t>
            </a: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certain t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ther: </a:t>
            </a:r>
            <a:r>
              <a:rPr b="1" lang="en-US" sz="3600" spc="-1" strike="noStrike">
                <a:solidFill>
                  <a:srgbClr val="d60093"/>
                </a:solidFill>
                <a:latin typeface="Times New Roman"/>
              </a:rPr>
              <a:t>football shi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2"/>
          <p:cNvSpPr/>
          <p:nvPr/>
        </p:nvSpPr>
        <p:spPr>
          <a:xfrm>
            <a:off x="250920" y="1212840"/>
            <a:ext cx="718920" cy="7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8"/>
          <p:cNvSpPr txBox="1"/>
          <p:nvPr/>
        </p:nvSpPr>
        <p:spPr>
          <a:xfrm>
            <a:off x="2700360" y="189000"/>
            <a:ext cx="417672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868686"/>
                  </a:outerShdw>
                </a:effectLst>
                <a:latin typeface="Arial"/>
              </a:rPr>
              <a:t>Fast reading</a:t>
            </a:r>
            <a:endParaRPr b="1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868686"/>
                </a:outerShdw>
              </a:effectLst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58560" y="1701720"/>
            <a:ext cx="698508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Read the passage and choose true (T) or false (F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32000" y="3214440"/>
            <a:ext cx="78120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My daughter is 15 and my boy h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lready started junior high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Our house really get small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397440" y="335772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97440" y="479736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2411280" y="549360"/>
            <a:ext cx="4321440" cy="110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Careful reading</a:t>
            </a:r>
            <a:endParaRPr b="1" lang="en-US" sz="1800" spc="1" strike="noStrike">
              <a:ln w="12600">
                <a:solidFill>
                  <a:srgbClr val="99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</p:spTree>
  </p:cSld>
  <p:transition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403280" y="836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My son was quite sad at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My daughter felt happy to part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ertain to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I want to give up my football shi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1401840" y="4076640"/>
            <a:ext cx="77421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Read the article again and answer the ques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97440" y="170028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397800" y="1003320"/>
            <a:ext cx="7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97800" y="3147840"/>
            <a:ext cx="71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"/>
          <p:cNvSpPr/>
          <p:nvPr/>
        </p:nvSpPr>
        <p:spPr>
          <a:xfrm>
            <a:off x="396720" y="4021200"/>
            <a:ext cx="719280" cy="776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856944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Why did they decide to have a yard sa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What do they want to do with the money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rom the sa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755640" y="1442880"/>
            <a:ext cx="8137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ecause the father’s children get bigger   and their house seems to get small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84360" y="4537080"/>
            <a:ext cx="730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y want to give the money to a children’s ho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291520" cy="56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Why does the son want to keep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rain and railway s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How can the old toys be useful ag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826920" y="2008080"/>
            <a:ext cx="8101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Because he has owned it since his fourth birthday, and he played with it almost every week until he was about sev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828000" y="4683240"/>
            <a:ext cx="709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y can be sold to the people wh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need th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2-01T17:52:36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